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9BB-5314-4233-B4B3-740600D8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0FC-23DC-4FE1-8EFA-8D8BEBEF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F3B-C567-4D5F-964F-2F7A6E7C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D8F-993A-4329-96FF-49A5192D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305B-CE1C-46DF-B98E-BE61DB33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63EF-2D83-4A92-90A1-492F4340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ED91-6DD1-4733-B978-B07E2DCC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3817-0160-4BEA-9431-540F96FA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C8C0-8B91-4A19-B36F-BBC47661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3DFE-5D8F-4A1E-98B8-4A59244E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93EF-5854-4E40-B755-090D40E7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C6F-9DF0-43BA-9BEA-D2B3BCF8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0491-5054-48D9-9847-7454B2A7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22E3-45BE-4F58-ADFF-35C51B1B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1566-9C67-4CEE-BF9E-9778E19F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E472-0A82-4D42-AAFD-0AE3987F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D470-B3AF-437C-8DD4-D283A94C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930A0-46A7-450F-8A2E-AE2127D3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9E884-C428-4C2C-A575-AEB2B4EB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44487-98D0-476F-AD44-1D4421F2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9A2F9-D460-4B91-B6D4-00757755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44811-B8FB-412D-8DA0-567CF0BF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49B0-F460-4D89-AFCE-F3A35EC0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D9D37-85D0-4343-9031-94CAD23D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4DF94-4BC1-46D5-A026-3AB66550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FA925-1B48-4F53-8835-DD636E7A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D8445-6692-4939-97B6-62B70C70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9E96A-BB84-407E-8F97-F5DFF154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31849-EB99-45D3-9AB6-BBB0C88F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0AF5F-999E-4A66-84B5-CCF9F979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7B2AD-6B80-4009-A093-0710A320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EFC6F-A231-4FDC-B82E-5FF54DF4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853A-5BBE-4C6E-AB12-6D9ECE36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4E8-578C-43DF-880E-7AC847B5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B5CC5-B7BF-46F6-9AB5-E74F468E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FF597-4A69-456B-AFEB-80EA0B71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F9E5D-1CE1-4169-9666-66B64A93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C4067-B8B3-49EB-95C1-BB99F14C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EA820-6EA5-41BF-AC88-F020F84F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A3929-8147-406A-9075-4DA746F3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A2E2C-382F-4303-961C-3FEB6AB8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08571-23A1-4F7B-8414-D2D63F5C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14B09-AB3B-4CFF-8D30-647685B8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60E3F-AF8C-4FE3-A606-9EF52659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A42-C7A2-473C-9DCD-4E3FC438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A8CE2-FB36-48B1-9CD3-8B617F5F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E66A8-4F33-443F-AF7D-39244CA9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5DAD4-5C92-4280-895C-0472D526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54FAD-B842-4F07-8431-2F111737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B705C-AF14-4D0F-B37C-13F888C2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F0083-815E-40FD-8090-E2A74C48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FFE35-F360-4FCD-9F33-9C71D721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92F5D-A922-4927-8034-C76DA481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607C6-41F8-4F01-B054-5A016D8D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3FCDA-1080-4248-BFCF-B234EB87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03F-F0A5-4E53-8C8D-2906A7F3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257C6-57E5-48BE-96B5-252D0E5A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5FFAA-3430-48BC-9127-85E065E6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D6E09-EEB6-403B-A96F-0D3AE4EE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8EBAB-5921-4DB7-890C-32A79295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A48DE-C29E-4545-AF3F-9DC5743C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4B14F-A6C7-4EA9-B2D4-2B30DB9B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8D119-E633-4683-ABBB-AA248530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7C087-C54E-4E61-90D5-DA3AEA80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A2118-3A00-49DE-8B01-993AEE47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89334-1071-4574-983A-A84B83B9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B4D-4F72-487D-8C98-4ED30257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80D79-7B13-49B5-8D54-D3671B75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8085B-1C30-40EC-9088-D770D6B9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68111-9F40-4E9C-9611-24465FF1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2F396-B258-44C2-BBBA-7522B40C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90F02-8E60-4502-8C52-D6F64473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3B5D9-9E6D-4E32-A891-4ED53417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E8029-659A-48FD-920A-947C0805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FE6A7-ADCF-42A5-8381-EC51D2E6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9634E-49A9-49A9-9F8F-2EB0EC9E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22310-28A0-454C-9424-B46C3387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722-5769-47D0-8B0F-AB93D1C3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16B3E-FABF-4AB5-BC35-A391348D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10897-D3B1-4AB7-A5F6-FD8ABC09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C285B-AA1B-4D0E-A6F3-1DCB553D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52E0E-2163-43A3-8CF6-4186A9DC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EB788-DB50-41C7-9E5A-DCEBA734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029-E245-465E-9B93-2833876C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a9432b"/>
              </a:gs>
              <a:gs pos="100000">
                <a:srgbClr val="e3a1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5d1d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5d1d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646b86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646b86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646b86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8E22-F38D-4E9F-BB77-1CDB6E084262}" type="slidenum">
              <a:rPr b="0" lang="el-GR" sz="1000" spc="-1" strike="noStrike">
                <a:solidFill>
                  <a:srgbClr val="646b86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a9432b"/>
              </a:gs>
              <a:gs pos="100000">
                <a:srgbClr val="e3a1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5d1d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5d1d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646b86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646b86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646b86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C7A7-47CA-4CD3-85E0-374A7FAB2D95}" type="slidenum">
              <a:rPr b="0" lang="el-GR" sz="1000" spc="-1" strike="noStrike">
                <a:solidFill>
                  <a:srgbClr val="646b86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a9432b"/>
              </a:gs>
              <a:gs pos="100000">
                <a:srgbClr val="e3a1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5d1d7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5d1d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646b86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646b86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646b86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53F5-30DC-41A1-8A22-525BB885BEDD}" type="slidenum">
              <a:rPr b="0" lang="el-GR" sz="1000" spc="-1" strike="noStrike">
                <a:solidFill>
                  <a:srgbClr val="646b86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a9432b"/>
              </a:gs>
              <a:gs pos="100000">
                <a:srgbClr val="e3a1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5d1d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5d1d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646b86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646b86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646b86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56FB-F5BC-4817-B2E1-9B3453C20D1B}" type="slidenum">
              <a:rPr b="0" lang="el-GR" sz="1000" spc="-1" strike="noStrike">
                <a:solidFill>
                  <a:srgbClr val="646b86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a9432b"/>
              </a:gs>
              <a:gs pos="100000">
                <a:srgbClr val="e3a1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5d1d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5d1d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646b86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646b86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646b86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0AA4-6838-42A1-98D6-E09EAFEAF239}" type="slidenum">
              <a:rPr b="0" lang="el-GR" sz="1000" spc="-1" strike="noStrike">
                <a:solidFill>
                  <a:srgbClr val="646b86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a9432b"/>
              </a:gs>
              <a:gs pos="100000">
                <a:srgbClr val="e3a1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5d1d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5d1d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646b86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646b86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646b86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7967-00DD-43D5-A8CA-8AED65194212}" type="slidenum">
              <a:rPr b="0" lang="el-GR" sz="1000" spc="-1" strike="noStrike">
                <a:solidFill>
                  <a:srgbClr val="646b86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a9432b"/>
              </a:gs>
              <a:gs pos="100000">
                <a:srgbClr val="e3a1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5d1d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5d1d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646b86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646b86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646b86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6443-3062-4BE8-9966-10C628E85A41}" type="slidenum">
              <a:rPr b="0" lang="el-GR" sz="1000" spc="-1" strike="noStrike">
                <a:solidFill>
                  <a:srgbClr val="646b86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68160" y="259920"/>
            <a:ext cx="7893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00"/>
                </a:solidFill>
                <a:latin typeface="Candara"/>
              </a:rPr>
              <a:t>ΑΛΛΑΓΕΣ ΣΤΗ ΔΗΜΟΤΙΚΗ ΠΕΡΙΟΥΣΙΑ  Κ΄ ΤΑ ΕΣΟΔΑ ΤΩΝ ΟΤΑ</a:t>
            </a:r>
            <a:endParaRPr b="0" lang="en-US" sz="4800" spc="-1" strike="noStrike">
              <a:solidFill>
                <a:srgbClr val="646b86"/>
              </a:solidFill>
              <a:latin typeface="Candar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00"/>
                </a:solidFill>
                <a:latin typeface="Candara"/>
              </a:rPr>
              <a:t>(ΚΛΕΙΣΘΕΝΗΣ Ι)</a:t>
            </a:r>
            <a:endParaRPr b="0" lang="en-US" sz="4000" spc="-1" strike="noStrike">
              <a:solidFill>
                <a:srgbClr val="646b86"/>
              </a:solidFill>
              <a:latin typeface="Candara"/>
            </a:endParaRPr>
          </a:p>
        </p:txBody>
      </p:sp>
      <p:sp>
        <p:nvSpPr>
          <p:cNvPr id="336" name="Υπότιτλος 2"/>
          <p:cNvSpPr/>
          <p:nvPr/>
        </p:nvSpPr>
        <p:spPr>
          <a:xfrm>
            <a:off x="1763640" y="4005360"/>
            <a:ext cx="5545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712d1c"/>
                </a:solidFill>
                <a:latin typeface="Candara"/>
              </a:rPr>
              <a:t>ΠΑΝΑΓΙΩΤΑ ΑΛΕΙΦΕΡ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712d1c"/>
                </a:solidFill>
                <a:latin typeface="Candara"/>
              </a:rPr>
              <a:t>Προϊστάμενη</a:t>
            </a:r>
            <a:r>
              <a:rPr b="0" lang="el-GR" sz="1600" spc="-1" strike="noStrike">
                <a:solidFill>
                  <a:srgbClr val="a9432b"/>
                </a:solidFill>
                <a:latin typeface="Candara"/>
              </a:rPr>
              <a:t> </a:t>
            </a:r>
            <a:r>
              <a:rPr b="0" lang="el-GR" sz="1600" spc="-1" strike="noStrike">
                <a:solidFill>
                  <a:srgbClr val="712d1c"/>
                </a:solidFill>
                <a:latin typeface="Candara"/>
              </a:rPr>
              <a:t>Τμήματος Περιουσία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712d1c"/>
                </a:solidFill>
                <a:latin typeface="Candara"/>
              </a:rPr>
              <a:t>Δ/νση Οικονομικών Τ.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712d1c"/>
                </a:solidFill>
                <a:latin typeface="Candara"/>
              </a:rPr>
              <a:t>Γενική Δ/νση Οικονομικών Τ.Α. &amp; Αναπτυξιακής Πολιτική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712d1c"/>
                </a:solidFill>
                <a:latin typeface="Candara"/>
              </a:rPr>
              <a:t>Υπουργείο Εσωτερικώ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12d1c"/>
                </a:solidFill>
                <a:latin typeface="Candara"/>
              </a:rPr>
              <a:t>p.aleiferi@ypes.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ff00"/>
                </a:solidFill>
                <a:latin typeface="Candara"/>
              </a:rPr>
              <a:t>Άρθρο 185</a:t>
            </a:r>
            <a:br>
              <a:rPr sz="3000"/>
            </a:br>
            <a:r>
              <a:rPr b="1" lang="el-GR" sz="3000" spc="-1" strike="noStrike">
                <a:solidFill>
                  <a:srgbClr val="ffff00"/>
                </a:solidFill>
                <a:latin typeface="Candara"/>
              </a:rPr>
              <a:t>Έννοια, περιεχόμενο κ΄τρόπος καθορισμού ανταποδοτικών τελών</a:t>
            </a: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468360" y="1557360"/>
            <a:ext cx="8207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a9432b"/>
                </a:solidFill>
                <a:latin typeface="Candara"/>
              </a:rPr>
              <a:t>Μεικτό σύστημα συντελεστών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a9432b"/>
                </a:solidFill>
                <a:latin typeface="Candara"/>
              </a:rPr>
              <a:t>3 γενικοί συντελεστέ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lnSpc>
                <a:spcPct val="80000"/>
              </a:lnSpc>
              <a:spcBef>
                <a:spcPts val="938"/>
              </a:spcBef>
              <a:spcAft>
                <a:spcPts val="938"/>
              </a:spcAft>
              <a:buClr>
                <a:srgbClr val="d16349"/>
              </a:buClr>
              <a:buFont typeface="Candar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a9432b"/>
                </a:solidFill>
                <a:latin typeface="Candara"/>
                <a:ea typeface="Arial"/>
              </a:rPr>
              <a:t>κατοικί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lnSpc>
                <a:spcPct val="80000"/>
              </a:lnSpc>
              <a:spcBef>
                <a:spcPts val="938"/>
              </a:spcBef>
              <a:spcAft>
                <a:spcPts val="938"/>
              </a:spcAft>
              <a:buClr>
                <a:srgbClr val="d16349"/>
              </a:buClr>
              <a:buFont typeface="Candar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a9432b"/>
                </a:solidFill>
                <a:latin typeface="Candara"/>
                <a:ea typeface="Arial"/>
              </a:rPr>
              <a:t>κοινωφελείς μη κερδοσκοπικούς σκοπούς και φιλανθρωπικούς σκοπού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lnSpc>
                <a:spcPct val="80000"/>
              </a:lnSpc>
              <a:spcBef>
                <a:spcPts val="938"/>
              </a:spcBef>
              <a:spcAft>
                <a:spcPts val="938"/>
              </a:spcAft>
              <a:buClr>
                <a:srgbClr val="d16349"/>
              </a:buClr>
              <a:buFont typeface="Candar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a9432b"/>
                </a:solidFill>
                <a:latin typeface="Candara"/>
                <a:ea typeface="Arial"/>
              </a:rPr>
              <a:t>πάσης φύσεως οικονομική δραστηριότητα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38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a9432b"/>
                </a:solidFill>
                <a:latin typeface="Candara"/>
              </a:rPr>
              <a:t>ειδικοί συντελεστές </a:t>
            </a:r>
            <a:r>
              <a:rPr b="0" lang="el-GR" sz="3000" spc="-1" strike="noStrike">
                <a:solidFill>
                  <a:srgbClr val="a9432b"/>
                </a:solidFill>
                <a:latin typeface="Candara"/>
              </a:rPr>
              <a:t>(επιφάνεια, χρήση, γεωγραφική ζώνη, κ.λπ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a9432b"/>
                </a:solidFill>
                <a:latin typeface="Candara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ff00"/>
                </a:solidFill>
                <a:latin typeface="Candara"/>
              </a:rPr>
              <a:t>Άρθρο 185</a:t>
            </a:r>
            <a:br>
              <a:rPr sz="3000"/>
            </a:br>
            <a:r>
              <a:rPr b="1" lang="el-GR" sz="3000" spc="-1" strike="noStrike">
                <a:solidFill>
                  <a:srgbClr val="ffff00"/>
                </a:solidFill>
                <a:latin typeface="Candara"/>
              </a:rPr>
              <a:t>Έννοια, περιεχόμενο κ΄τρόπος καθορισμού ανταποδοτικών τελών</a:t>
            </a: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468360" y="1773360"/>
            <a:ext cx="820728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a9432b"/>
                </a:solidFill>
                <a:latin typeface="Candara"/>
              </a:rPr>
              <a:t>Απόφαση Δημοτικού Συμβουλίου το 2019 για το 20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a9432b"/>
                </a:solidFill>
                <a:latin typeface="Candara"/>
              </a:rPr>
              <a:t>Αιτιολογημέν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d1634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a9432b"/>
                </a:solidFill>
                <a:latin typeface="Candara"/>
                <a:ea typeface="Arial"/>
              </a:rPr>
              <a:t>εμβαδό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d1634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a9432b"/>
                </a:solidFill>
                <a:latin typeface="Candara"/>
                <a:ea typeface="Arial"/>
              </a:rPr>
              <a:t>στεγασμένο ή μ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d1634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a9432b"/>
                </a:solidFill>
                <a:latin typeface="Candara"/>
                <a:ea typeface="Arial"/>
              </a:rPr>
              <a:t>χρόνος χρήση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d1634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a9432b"/>
                </a:solidFill>
                <a:latin typeface="Candara"/>
                <a:ea typeface="Arial"/>
              </a:rPr>
              <a:t>βαθμός επιβάρυνσης υπηρεσιών δήμο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d1634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a9432b"/>
                </a:solidFill>
                <a:latin typeface="Candara"/>
                <a:ea typeface="Arial"/>
              </a:rPr>
              <a:t>βαθμός επιβάρυνσης περιβάλλοντο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a9432b"/>
                </a:solidFill>
                <a:latin typeface="Candara"/>
                <a:ea typeface="Arial"/>
              </a:rPr>
              <a:t>	</a:t>
            </a:r>
            <a:r>
              <a:rPr b="1" lang="el-GR" sz="2800" spc="-1" strike="noStrike">
                <a:solidFill>
                  <a:srgbClr val="a9432b"/>
                </a:solidFill>
                <a:latin typeface="Candara"/>
                <a:ea typeface="Arial"/>
              </a:rPr>
              <a:t>      </a:t>
            </a:r>
            <a:r>
              <a:rPr b="1" lang="el-GR" sz="2800" spc="-1" strike="noStrike">
                <a:solidFill>
                  <a:srgbClr val="a9432b"/>
                </a:solidFill>
                <a:latin typeface="Candara"/>
                <a:ea typeface="Arial"/>
              </a:rPr>
              <a:t>«</a:t>
            </a:r>
            <a:r>
              <a:rPr b="1" i="1" lang="el-GR" sz="2800" spc="-1" strike="noStrike">
                <a:solidFill>
                  <a:srgbClr val="a9432b"/>
                </a:solidFill>
                <a:latin typeface="Candara"/>
                <a:ea typeface="Arial"/>
              </a:rPr>
              <a:t>ο ρυπαίνων πληρώνει</a:t>
            </a:r>
            <a:r>
              <a:rPr b="1" lang="el-GR" sz="2800" spc="-1" strike="noStrike">
                <a:solidFill>
                  <a:srgbClr val="a9432b"/>
                </a:solidFill>
                <a:latin typeface="Candara"/>
                <a:ea typeface="Arial"/>
              </a:rPr>
              <a:t>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a9432b"/>
                </a:solidFill>
                <a:latin typeface="Candara"/>
                <a:ea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5 - Δεξιό βέλος"/>
          <p:cNvSpPr/>
          <p:nvPr/>
        </p:nvSpPr>
        <p:spPr>
          <a:xfrm>
            <a:off x="2124000" y="6524640"/>
            <a:ext cx="14436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15840">
            <a:solidFill>
              <a:srgbClr val="6b31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ff00"/>
                </a:solidFill>
                <a:latin typeface="Candara"/>
              </a:rPr>
              <a:t>Άρθρο 185</a:t>
            </a:r>
            <a:br>
              <a:rPr sz="3000"/>
            </a:br>
            <a:r>
              <a:rPr b="1" lang="el-GR" sz="3000" spc="-1" strike="noStrike">
                <a:solidFill>
                  <a:srgbClr val="ffff00"/>
                </a:solidFill>
                <a:latin typeface="Candara"/>
              </a:rPr>
              <a:t>Έννοια, περιεχόμενο κ΄τρόπος καθορισμού ανταποδοτικών τελών</a:t>
            </a: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68360" y="1989000"/>
            <a:ext cx="8207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μεγαλύτερη δυνατότητα παραμετροποίησης κ΄ προσαρμογής των ανταποδοτικών τελώ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έμφαση στις χρήσεις των ακινήτ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μεγαλύτερη φορολογική αυτονομ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δικαιότερος καταμερισμός κόστου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d1634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a9432b"/>
                </a:solidFill>
                <a:latin typeface="Candara"/>
                <a:ea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ff00"/>
                </a:solidFill>
                <a:latin typeface="Candara"/>
              </a:rPr>
              <a:t>Άρθρο 185</a:t>
            </a:r>
            <a:br>
              <a:rPr sz="3000"/>
            </a:br>
            <a:r>
              <a:rPr b="1" lang="el-GR" sz="3000" spc="-1" strike="noStrike">
                <a:solidFill>
                  <a:srgbClr val="ffff00"/>
                </a:solidFill>
                <a:latin typeface="Candara"/>
              </a:rPr>
              <a:t>Έννοια, περιεχόμενο κ΄τρόπος καθορισμού ανταποδοτικών τελών</a:t>
            </a: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468360" y="1844640"/>
            <a:ext cx="82072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στην απόφαση Δ.Σ. δεν λαμβάνονται υπόψη λευκές ψήφο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αντιπρόταση με κοστολογημένες εναλλακτικές εκδοχές που πληρούν προϋποθέσει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5716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  <a:ea typeface="Arial"/>
              </a:rPr>
              <a:t>προϋπολογιστικής ισοσκέλισης εσόδων – δαπανώ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5716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  <a:ea typeface="Arial"/>
              </a:rPr>
              <a:t>ανταποδο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a9432b"/>
                </a:solidFill>
                <a:latin typeface="Candara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4 - Βέλος προς τα κάτω"/>
          <p:cNvSpPr/>
          <p:nvPr/>
        </p:nvSpPr>
        <p:spPr>
          <a:xfrm>
            <a:off x="3635280" y="3357720"/>
            <a:ext cx="1079640" cy="50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15840">
            <a:solidFill>
              <a:srgbClr val="6b31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ff00"/>
                </a:solidFill>
                <a:latin typeface="Candara"/>
              </a:rPr>
              <a:t>Άρθρο 185</a:t>
            </a:r>
            <a:br>
              <a:rPr sz="3000"/>
            </a:br>
            <a:r>
              <a:rPr b="1" lang="el-GR" sz="3000" spc="-1" strike="noStrike">
                <a:solidFill>
                  <a:srgbClr val="ffff00"/>
                </a:solidFill>
                <a:latin typeface="Candara"/>
              </a:rPr>
              <a:t>Έννοια, περιεχόμενο κ΄τρόπος καθορισμού ανταποδοτικών τελών</a:t>
            </a: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468360" y="1989000"/>
            <a:ext cx="8207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Το ανταποδοτικό τέλος καθαριότητας κ΄ φωτισμού αποκλειστικά για κάλυψη δαπανών σχετικών μ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παροχή υπηρεσιών αποκομιδής κ΄ διαχείρισης απορριμμάτων κ΄ ηλεκτροφωτισμού των κοινόχρηστων χώρ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κάθε άλλης υπηρεσίας συναφούς με αυτέ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  <a:ea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andara"/>
              </a:rPr>
              <a:t>Άρθρο 193</a:t>
            </a:r>
            <a:br>
              <a:rPr sz="3200"/>
            </a:br>
            <a:r>
              <a:rPr b="1" lang="el-GR" sz="3200" spc="-1" strike="noStrike">
                <a:solidFill>
                  <a:srgbClr val="ffff00"/>
                </a:solidFill>
                <a:latin typeface="Candara"/>
              </a:rPr>
              <a:t>Διευκόλυνση είσπραξης ίδιων εσόδων των ΟΤΑ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468360" y="1989000"/>
            <a:ext cx="8207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Υποβολή δήλωσης τέλους παρεπιδημούντων κ΄ τέλους επί των ακαθαρίστων εσόδων μέσω </a:t>
            </a:r>
            <a:r>
              <a:rPr b="0" lang="en-US" sz="3200" spc="-1" strike="noStrike">
                <a:solidFill>
                  <a:srgbClr val="a9432b"/>
                </a:solidFill>
                <a:latin typeface="Candara"/>
              </a:rPr>
              <a:t>TaxisNet (O</a:t>
            </a: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ΠΣ ΑΑΔΕ</a:t>
            </a:r>
            <a:r>
              <a:rPr b="0" lang="en-US" sz="3200" spc="-1" strike="noStrike">
                <a:solidFill>
                  <a:srgbClr val="a9432b"/>
                </a:solidFill>
                <a:latin typeface="Candara"/>
              </a:rPr>
              <a:t>)</a:t>
            </a: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 ταυτόχρονα με δήλωση Φ.Π.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ΚΥΑ Υπουργών Εσωτερικών &amp; Οικονομικ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  <a:ea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andara"/>
              </a:rPr>
              <a:t>Άρθρο 193</a:t>
            </a:r>
            <a:br>
              <a:rPr sz="3200"/>
            </a:br>
            <a:r>
              <a:rPr b="1" lang="el-GR" sz="3200" spc="-1" strike="noStrike">
                <a:solidFill>
                  <a:srgbClr val="ffff00"/>
                </a:solidFill>
                <a:latin typeface="Candara"/>
              </a:rPr>
              <a:t>Διευκόλυνση είσπραξης ίδιων εσόδων των ΟΤΑ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468360" y="1989000"/>
            <a:ext cx="8207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Βελτιστοποίηση εισπραξιμότητας εσόδων των δήμω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Μείωση διοικητικού βάρους τόσο για υπόχρεους όσο κ΄ για υπηρεσίες δήμω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  <a:ea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andara"/>
              </a:rPr>
              <a:t>Άρθρο 222</a:t>
            </a:r>
            <a:br>
              <a:rPr sz="3200"/>
            </a:br>
            <a:r>
              <a:rPr b="1" lang="el-GR" sz="3200" spc="-1" strike="noStrike">
                <a:solidFill>
                  <a:srgbClr val="ffff00"/>
                </a:solidFill>
                <a:latin typeface="Candara"/>
              </a:rPr>
              <a:t>(μη ηλεκτροδοτούμενα κ΄</a:t>
            </a:r>
            <a:br>
              <a:rPr sz="3200"/>
            </a:br>
            <a:r>
              <a:rPr b="1" lang="el-GR" sz="3200" spc="-1" strike="noStrike">
                <a:solidFill>
                  <a:srgbClr val="ffff00"/>
                </a:solidFill>
                <a:latin typeface="Candara"/>
              </a:rPr>
              <a:t>μη χρησιμοποιούμενα ακίνητα)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468360" y="1989000"/>
            <a:ext cx="8207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Απαλλαγή από υποχρέωση καταβολής ανταποδοτικών τελών από ημ/νία υποβολής στο δήμο δήλωσης ότι δεν ηλεκτροδοτούνται κ΄ότι δεν πρόκειται να χρησιμοποιηθού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Αν διαπιστωθεί ηλεκτροδότηση/χρήση επιβολή α) τέλους που αναλογεί από τον χρόνο απαλλαγής β) ισόποσου προστίμο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  <a:ea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andara"/>
              </a:rPr>
              <a:t>Άρθρο 222</a:t>
            </a:r>
            <a:br>
              <a:rPr sz="3200"/>
            </a:br>
            <a:r>
              <a:rPr b="1" lang="el-GR" sz="3200" spc="-1" strike="noStrike">
                <a:solidFill>
                  <a:srgbClr val="ffff00"/>
                </a:solidFill>
                <a:latin typeface="Candara"/>
              </a:rPr>
              <a:t>(μη ηλεκτροδοτούμενα κ΄</a:t>
            </a:r>
            <a:br>
              <a:rPr sz="3200"/>
            </a:br>
            <a:r>
              <a:rPr b="1" lang="el-GR" sz="3200" spc="-1" strike="noStrike">
                <a:solidFill>
                  <a:srgbClr val="ffff00"/>
                </a:solidFill>
                <a:latin typeface="Candara"/>
              </a:rPr>
              <a:t>μη χρησιμοποιούμενα ακίνητα)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468360" y="1989000"/>
            <a:ext cx="8207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Μεταβατικά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Διαγράφονται ή παραλείπεται η βεβαίωση οφειλών από τέλη καθαριότητας κ΄ φωτισμού αν ο ιδιοκτήτης είχε κάνει δήλωση μη χρήσης μέχρι έναρξη ισχύος 4555/2018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ή εντός 6 μηνών από ψήφισή του (19.02.2019)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andara"/>
              </a:rPr>
              <a:t>Άρθρο 222</a:t>
            </a:r>
            <a:br>
              <a:rPr sz="3200"/>
            </a:br>
            <a:r>
              <a:rPr b="1" lang="el-GR" sz="3200" spc="-1" strike="noStrike">
                <a:solidFill>
                  <a:srgbClr val="ffff00"/>
                </a:solidFill>
                <a:latin typeface="Candara"/>
              </a:rPr>
              <a:t>(μη ηλεκτροδοτούμενα κ΄</a:t>
            </a:r>
            <a:br>
              <a:rPr sz="3200"/>
            </a:br>
            <a:r>
              <a:rPr b="1" lang="el-GR" sz="3200" spc="-1" strike="noStrike">
                <a:solidFill>
                  <a:srgbClr val="ffff00"/>
                </a:solidFill>
                <a:latin typeface="Candara"/>
              </a:rPr>
              <a:t>μη χρησιμοποιούμενα ακίνητα)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468360" y="1989000"/>
            <a:ext cx="8207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Εφεξής για απαλλαγή απαιτείται μόνο η υποβολή υπεύθυνης δήλωσης περί διακοπής ηλεκτροδότησης κ΄ μη χρήση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Ο δήμος ελέγχει ακρίβεια περιεχομένου Υ.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l-GR" sz="6000" spc="-1" strike="noStrike">
                <a:solidFill>
                  <a:srgbClr val="ffff00"/>
                </a:solidFill>
                <a:latin typeface="Candara"/>
              </a:rPr>
              <a:t>ΔΗΜΟΤΙΚΗ ΠΕΡΙΟΥΣΙΑ</a:t>
            </a:r>
            <a:br>
              <a:rPr sz="6600"/>
            </a:b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8920" y="338040"/>
            <a:ext cx="87138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andara"/>
              </a:rPr>
              <a:t>Άρθρο 194</a:t>
            </a:r>
            <a:br>
              <a:rPr sz="3200"/>
            </a:br>
            <a:r>
              <a:rPr b="1" lang="el-GR" sz="3200" spc="-1" strike="noStrike">
                <a:solidFill>
                  <a:srgbClr val="ffff00"/>
                </a:solidFill>
                <a:latin typeface="Candara"/>
              </a:rPr>
              <a:t>Ηλεκτρονική Βάση Καταγραφής Ακίνητης Περιουσίας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468360" y="1989000"/>
            <a:ext cx="8207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θεσμοθέτηση υφιστάμενης βάσης καταγραφής ακίνητης περιου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εργαλείο της ίδιας της Τοπικής Αυτοδιοίκη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σχεδιασμός πολιτικών για προστασία κ΄ αξιοποίηση ακίνητης περιουσίας Τ.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Candara"/>
              </a:rPr>
              <a:t>Άρθρο 195</a:t>
            </a:r>
            <a:br>
              <a:rPr sz="2800"/>
            </a:br>
            <a:r>
              <a:rPr b="1" lang="el-GR" sz="2400" spc="-1" strike="noStrike">
                <a:solidFill>
                  <a:srgbClr val="ffff00"/>
                </a:solidFill>
                <a:latin typeface="Candara"/>
              </a:rPr>
              <a:t>Σύσταση Επιτροπής για εκπόνηση ολοκληρωμένου θεσμικού πλαισίου για την ανάπτυξη οικονομικών δραστηριοτήτων Α΄γενούς κ΄Β΄γενούς τομέα παραγωγής σε δημοτικές εκτάσεις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468360" y="1628640"/>
            <a:ext cx="82072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ανάπτυξη δραστηριοτήτων σε δημοτικές εκτάσεις για βιομηχανικούς κ΄ βιοτεχνικούς σκοπούς, κτηνοτροφικές κ΄ αγροτικές εκμεταλλεύσεις, ίδρυση κ΄ επέκταση σταυλικών εγκαταστάσεων, εγκαταστάσεων θερμοκηπίων κ΄ μονάδων στους τομείς αλιε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κατάργηση ν.δ. 203/1969, όπως είχε τροποποιηθεί με ν.δ. 221/1974: απευθείας εκμίσθωση ή εκποίηση εκτάσεων υπό όρους κ΄ προϋποθέσει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andara"/>
              </a:rPr>
              <a:t>Άρθρο 195</a:t>
            </a:r>
            <a:br>
              <a:rPr sz="2800"/>
            </a:br>
            <a:r>
              <a:rPr b="1" lang="el-GR" sz="2400" spc="-1" strike="noStrike">
                <a:solidFill>
                  <a:srgbClr val="ffff00"/>
                </a:solidFill>
                <a:latin typeface="Candara"/>
              </a:rPr>
              <a:t>Σύσταση Επιτροπής για εκπόνηση ολοκληρωμένου θεσμικού πλαισίου για την ανάπτυξη οικονομικών δραστηριοτήτων Α΄γενούς κ΄Β΄γενούς τομέα παραγωγής σε δημοτικές εκτάσεις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468360" y="1989000"/>
            <a:ext cx="8207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Κώδικας Δήμων &amp; Κοινοτήτων δεν παρέχει δικλείδες ασφαλείας π.χ. για προστασία φυσικού, οικιστικού κ΄ πολιτιστικού περιβάλλον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9432b"/>
                </a:solidFill>
                <a:latin typeface="Candara"/>
              </a:rPr>
              <a:t>κατάρτιση ολοκληρωμένου θεσμικού πλαισίου αντίστοιχου με υφιστάμενο για δημόσιες εκτάσει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andara"/>
              </a:rPr>
              <a:t>Άρθρο 195</a:t>
            </a:r>
            <a:br>
              <a:rPr sz="2800"/>
            </a:br>
            <a:r>
              <a:rPr b="1" lang="el-GR" sz="2400" spc="-1" strike="noStrike">
                <a:solidFill>
                  <a:srgbClr val="ffff00"/>
                </a:solidFill>
                <a:latin typeface="Candara"/>
              </a:rPr>
              <a:t>Σύσταση Επιτροπής για εκπόνηση ολοκληρωμένου θεσμικού πλαισίου για την ανάπτυξη οικονομικών δραστηριοτήτων Α΄γενούς κ΄Β΄γενούς τομέα παραγωγής σε δημοτικές εκτάσεις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468360" y="1989000"/>
            <a:ext cx="8207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χάραξη ευρύτερης εθνικής αγροτικής πολιτική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προώθηση γενικότερης αναπτυξιακής στρατηγικής (β΄γενής τομέας, ΑΠ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αξιοποίηση δημοτικής περιουσίας κ΄ αύξηση εσόδ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8920" y="338040"/>
            <a:ext cx="87138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andara"/>
              </a:rPr>
              <a:t>Άρθρο 196</a:t>
            </a:r>
            <a:br>
              <a:rPr sz="2800"/>
            </a:br>
            <a:r>
              <a:rPr b="1" lang="el-GR" sz="2800" spc="-1" strike="noStrike">
                <a:solidFill>
                  <a:srgbClr val="ffff00"/>
                </a:solidFill>
                <a:latin typeface="Candara"/>
              </a:rPr>
              <a:t>Εκμίσθωση ακινήτων των δήμων – παραχώρηση χρήσης κινητών κ΄ ακινήτων των δήμων σε φορείς Κοινωνικής &amp; Αλληλέγγυας Οικονομίας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468360" y="1916280"/>
            <a:ext cx="82072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Υποχρεωτική επανάληψη δημοπρασίας μόνο αν δεν παρουσιαστεί πλειοδότη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Διεύρυνση περιπτώσεων απευθείας εκμίσθωση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Διεύρυνση μακροχρόνιων μισθώσεων σε όλες τις δραστηριότητε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9432b"/>
                </a:solidFill>
                <a:latin typeface="Candara"/>
              </a:rPr>
              <a:t>Υπεκμίσθωση</a:t>
            </a: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 για πρώτη φορά (ρητή αναφορά κ΄ για υφιστάμενες συμβάσει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8920" y="338040"/>
            <a:ext cx="87138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andara"/>
              </a:rPr>
              <a:t>Άρθρο 196</a:t>
            </a:r>
            <a:br>
              <a:rPr sz="2800"/>
            </a:br>
            <a:r>
              <a:rPr b="1" lang="el-GR" sz="2800" spc="-1" strike="noStrike">
                <a:solidFill>
                  <a:srgbClr val="ffff00"/>
                </a:solidFill>
                <a:latin typeface="Candara"/>
              </a:rPr>
              <a:t>Εκμίσθωση ακινήτων των δήμων – παραχώρηση χρήσης κινητών &amp; ακινήτων των δήμων σε φορείς Κοινωνικής &amp; Αλληλέγγυας Οικονομίας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468360" y="1773360"/>
            <a:ext cx="820728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d16349"/>
              </a:buClr>
              <a:buFont typeface="Candar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Δυνατότητα δωρεάν παραχώρησης χρήσης δημοτικών ακινήτων κ΄ κινητών πραγμάτων σε φορείς Κοινωνικής &amp; Αλληλέγγυας Οικονομίας (ν. 4430/201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      </a:t>
            </a: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Έως 5 έτη για ακίνητα, με δυνατότητα απευθείας εκμίσθωσης μετά τη λήξ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      </a:t>
            </a:r>
            <a:r>
              <a:rPr b="0" lang="el-GR" sz="3200" spc="-1" strike="noStrike">
                <a:solidFill>
                  <a:srgbClr val="a9432b"/>
                </a:solidFill>
                <a:latin typeface="Candara"/>
              </a:rPr>
              <a:t>Πολλαπλά οφέλη σε τοπικό επίπεδο, έμφαση στην κοινωνική ισότητα και το σεβασμό του φυσικού περιβάλλοντο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l-GR" sz="6600" spc="-1" strike="noStrike">
                <a:solidFill>
                  <a:srgbClr val="ffff00"/>
                </a:solidFill>
                <a:latin typeface="Candara"/>
              </a:rPr>
              <a:t>ΕΣΟΔΑ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2T06:19:23Z</dcterms:created>
  <dc:creator>stefanos</dc:creator>
  <dc:description/>
  <dc:language>en-US</dc:language>
  <cp:lastModifiedBy>Ιωάννης - Παναγιώτα</cp:lastModifiedBy>
  <dcterms:modified xsi:type="dcterms:W3CDTF">2018-12-14T09:50:07Z</dcterms:modified>
  <cp:revision>90</cp:revision>
  <dc:subject/>
  <dc:title>Παρουσίαση του PowerPoint</dc:title>
</cp:coreProperties>
</file>